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2750-55C1-4BFB-AB6C-56D5DDF9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561A-1DA9-4DDA-A505-35AEA58E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CC74-966C-411E-BB9B-154B5AEAA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5D63-D146-4F7B-B33B-1AC914D0E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E71F-DDB0-4C73-A202-0043E024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4543-760B-4FAA-B3D6-A17F8F47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3FF91-E529-4287-A09D-05152D6B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700F-AE6F-4A7F-8780-E335A2D6A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CED9-E237-4A24-A814-171AA641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0ACD-A116-45FE-87CC-4C1FC956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E49B9-2435-4A35-83A9-B33ED590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DF09-188A-4024-BF8D-B2A13519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5EAB-0E2E-4F8F-A5EF-1F05118F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5B6AC-15AA-43C7-8F00-68DA4E18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D79-44E9-464C-9D14-F7FD8F4A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ED39-7102-46F7-A7B6-F64F6800F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38D9-07D1-4F47-AC26-71E140E2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E4DE3-8538-44AE-BC8E-2655472C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8A2C0-539F-406E-B472-09F68C75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9BFC9-2651-4C5D-92E8-2D2FF523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4A432-4633-4EC8-84CC-6A8ABA61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D495D-0963-4AB3-A710-666AC9760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AABD-E225-4706-8E9F-D763A8FE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AB9EA-B8B7-4D3C-A828-10808A800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37E18-87F1-4807-ADBF-E17BBB7A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75AB5-DE93-4466-A9F2-8F2F38A3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A8696-3FC6-4BB6-959B-29DAE219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25C16-C13F-4B1A-8A79-6BA98C27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FE38C-3CB5-4442-A8AD-8BCCF708B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F0ACD-F405-4BC2-B797-D66CDBB35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070D-B25E-4139-8342-E5430229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C8A-02C9-496F-8B7A-AA12608E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5F0-9964-4E87-A593-E8025C1D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369-2CFD-441B-B2EB-3FD55454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4FF6-5A95-4F74-B044-52C7D69A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12E4-02B8-4132-B0C9-61855DC0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2086-5C01-4280-9B85-D63F8B03B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E5F5-078D-435C-B782-CA5C59FB24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4d3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C1D1-79FC-40A3-8BB8-9A43B40B1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480" y="2276640"/>
            <a:ext cx="9144000" cy="15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Introduction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laboratory practic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72080" y="5656320"/>
            <a:ext cx="447192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epartment of Phys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3"/>
          <p:cNvSpPr/>
          <p:nvPr/>
        </p:nvSpPr>
        <p:spPr>
          <a:xfrm>
            <a:off x="387360" y="14436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VERSITY OF KRAGUJEV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CULTY OF MEDICAL 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ATED ACADEMIC STUDIES OF MEDI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2700360" y="393372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ee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42600" y="356760"/>
            <a:ext cx="80010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38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STING OF SPECIFIC EFFECTS ON EXPERIMENTAL ANIM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85880" y="2000160"/>
            <a:ext cx="81072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LATION                                DOG, RAT RESPIRATION                                RAT, GUINEA P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ROINTESTINAL                   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ATOLOGY                               MOUSE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UROLOGY                                 CAT, 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MONES                                   RAT,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URESIS                                       D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ight Arrow 6"/>
          <p:cNvSpPr/>
          <p:nvPr/>
        </p:nvSpPr>
        <p:spPr>
          <a:xfrm flipV="1">
            <a:off x="4140360" y="214236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ight Arrow 7"/>
          <p:cNvSpPr/>
          <p:nvPr/>
        </p:nvSpPr>
        <p:spPr>
          <a:xfrm flipV="1">
            <a:off x="4140360" y="34282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8"/>
          <p:cNvSpPr/>
          <p:nvPr/>
        </p:nvSpPr>
        <p:spPr>
          <a:xfrm flipV="1">
            <a:off x="4140360" y="39283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9"/>
          <p:cNvSpPr/>
          <p:nvPr/>
        </p:nvSpPr>
        <p:spPr>
          <a:xfrm flipV="1">
            <a:off x="4140360" y="435708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ight Arrow 10"/>
          <p:cNvSpPr/>
          <p:nvPr/>
        </p:nvSpPr>
        <p:spPr>
          <a:xfrm flipV="1">
            <a:off x="4140360" y="478620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ight Arrow 11"/>
          <p:cNvSpPr/>
          <p:nvPr/>
        </p:nvSpPr>
        <p:spPr>
          <a:xfrm flipV="1">
            <a:off x="4140360" y="2571120"/>
            <a:ext cx="928440" cy="214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ight Arrow 12"/>
          <p:cNvSpPr/>
          <p:nvPr/>
        </p:nvSpPr>
        <p:spPr>
          <a:xfrm flipV="1">
            <a:off x="4140360" y="3000240"/>
            <a:ext cx="928440" cy="214560"/>
          </a:xfrm>
          <a:prstGeom prst="rightArrow">
            <a:avLst>
              <a:gd name="adj1" fmla="val 50000"/>
              <a:gd name="adj2" fmla="val 49923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357120" y="1214280"/>
            <a:ext cx="8377200" cy="16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ts val="38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conditioning of laboratory animals – immobilization and anesthe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500200" y="3143160"/>
            <a:ext cx="464364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obilization metho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Mechanic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different apparatus for suspen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harmacologic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urgical anesthes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Electro-acupuncture anesthesi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stimulation of acupuncture points = opioid substances secre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3427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42976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he application of drugs that block the transfer of pain in the sensory nerves of selected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83920"/>
            <a:ext cx="608472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anesthe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ade of  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s (on cytoplasmic side) – enables the generation of action potent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myelinated fibers (and thinner myelinated fibers) are blocked first = pain, temperature (C, Aδ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elinated fibers (Aα,  Aβ) are blocked later = touch, m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6" descr="http://amaprod.silverchaircdn.com/data/Journals/JAMA/22468/m_jpg15020fa.png"/>
          <p:cNvPicPr/>
          <p:nvPr/>
        </p:nvPicPr>
        <p:blipFill>
          <a:blip r:embed="rId1"/>
          <a:stretch/>
        </p:blipFill>
        <p:spPr>
          <a:xfrm>
            <a:off x="6093000" y="2133720"/>
            <a:ext cx="3051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42560" y="2708280"/>
            <a:ext cx="7093080" cy="39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is no cross reaction!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ensitivity after 10 minutes (up to couple of hou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ay of administ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opical (spraying or drop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local infiltration (by inj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block anesthesia (near nerves rou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pinal anesthesia (subarachnoid spa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pid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5" descr="http://www.intelligentdental.com/wp-content/uploads/2012/02/lokalna-anestezija.jpg"/>
          <p:cNvPicPr/>
          <p:nvPr/>
        </p:nvPicPr>
        <p:blipFill>
          <a:blip r:embed="rId1"/>
          <a:stretch/>
        </p:blipFill>
        <p:spPr>
          <a:xfrm>
            <a:off x="5987880" y="4508640"/>
            <a:ext cx="3156120" cy="2349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250920" y="404640"/>
            <a:ext cx="7993080" cy="17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s of local anesthetic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st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procaine, tetracaine – short effect, about 45 min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mi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lidocaine, bupivacaine – prolonged effect, up to 1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9"/>
          <p:cNvSpPr/>
          <p:nvPr/>
        </p:nvSpPr>
        <p:spPr>
          <a:xfrm>
            <a:off x="216000" y="2205000"/>
            <a:ext cx="58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Norepinephrine is usually added  to delay drugs uptak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8786880" cy="264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anesthes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reversible, selective inhibition of C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GESIA = absence of pa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FLEXIA  = absence of deep tendon reflex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NIA        = absence of skeletal muscles ton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57120" y="2571840"/>
            <a:ext cx="8663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analgesia, areflexia, and atonia while preserving respiration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nciple disadvan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– difficult for do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– short lasting, up to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isk of overdose – CNS, C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57120" y="785520"/>
            <a:ext cx="87868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anesthesia administ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f anesthetic g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ve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halatory anesthe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s – diethileter, methoxyfluran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genated hydrocarbons – halothane, trichloroethylen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trous oxide (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venous anesthetic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opental sodium (ultra-short-acting barbitu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omid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f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ta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60008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anesthesia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07640" y="1341000"/>
            <a:ext cx="57150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Analg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citation (delir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urgi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Medullar par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5292720" y="2565360"/>
            <a:ext cx="38512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360" y="260280"/>
            <a:ext cx="9036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ANALG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administration to the moment of unconsciousness, touch sensation preserved -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brain corte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buClr>
                <a:srgbClr val="0000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EXCITATION (DELIRIUM)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from the moment of unconsciousness to the moment of spinal reflexes turn off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over reactivity, irregular breathing, increased muscle tone, mydriasis... Premedication can prevent or inhibit this pha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3. SURGICAL ANESTHESIA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begins with skeletal muscles atonia and spinal reflexes turn off. Suitable for surgical intervention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regular and slow breathing, decrease muscle tone, swallowing reflex turn off, circular eye movements –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ffects on spinal co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Arial"/>
              </a:rPr>
              <a:t>4. MEDULLAR PARALYS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 if overdose the anesthetics may induc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the paralysis of brain ste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Clinical sig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irregular heartbeat with hypotension, respiration paralysis, sphincters relaxation, mydriasis with no response to light sensation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50560" y="2492280"/>
            <a:ext cx="8520120" cy="3571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boratory animal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re selected species and housed in controlled populations, and used for research and testing to study about diseases, biological products, vaccines, etc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choice depends on the type and aims of the experiment, but the animal must be HEALTHY.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ost common laboratory animals are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mic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guinea pi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rabbi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frog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og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at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ima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929800" cy="11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E ANNUAL EXPENDITURE FOR EXPERIMENTAL ANIMALS IN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ontent Placeholder 2"/>
          <p:cNvSpPr/>
          <p:nvPr/>
        </p:nvSpPr>
        <p:spPr>
          <a:xfrm>
            <a:off x="642960" y="1643040"/>
            <a:ext cx="787716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YP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OTAL NUMBER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ts, mice, guinea pig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6.400.000       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abbi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3.300.000       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rds, fro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05.000         0.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gs                                               84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.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ig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42.000          0.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ts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9.000         0.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on-human primates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          60.000</a:t>
            </a: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0.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tal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0.000.000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10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56800" y="285840"/>
            <a:ext cx="631692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ts and m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13840" y="1143000"/>
            <a:ext cx="60008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standing ability to ada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genome size and number of genes as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lif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not expensive, easy to handle and suitable for various mani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strains are developed through selection (knock out serie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virology/bacteriology, oncology, hematology, gene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mouse"/>
          <p:cNvPicPr/>
          <p:nvPr/>
        </p:nvPicPr>
        <p:blipFill>
          <a:blip r:embed="rId1"/>
          <a:stretch/>
        </p:blipFill>
        <p:spPr>
          <a:xfrm>
            <a:off x="6215040" y="928800"/>
            <a:ext cx="262404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631656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uinea pi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600" y="1196640"/>
            <a:ext cx="91440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es of herbivorous rodent originating from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, part of national cuisine (Peru, Boliv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 reproductive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ology, microbiology, endocrinology, immu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4500720" y="3857760"/>
            <a:ext cx="378612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71400" y="214200"/>
            <a:ext cx="185724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b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6760" y="1285560"/>
            <a:ext cx="5429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dis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ob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also bred as domest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logy, virus isolation, serum and vaccine standardization, isolated organs - phys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6000840" y="1143000"/>
            <a:ext cx="26431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314316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gs and c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214280"/>
            <a:ext cx="78580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ntly, they have been used more and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for new surgical techniques (transplant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g – gastrointestinal physiology and cir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4929120" y="3786120"/>
            <a:ext cx="3429000" cy="2786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"/>
          <p:cNvPicPr/>
          <p:nvPr/>
        </p:nvPicPr>
        <p:blipFill>
          <a:blip r:embed="rId2"/>
          <a:stretch/>
        </p:blipFill>
        <p:spPr>
          <a:xfrm>
            <a:off x="285840" y="3786120"/>
            <a:ext cx="4000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285480"/>
            <a:ext cx="221472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56760" y="1213920"/>
            <a:ext cx="5286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model for examination of diseases in huma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 - they are extremely expensive, so they are used less o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aby-02_small"/>
          <p:cNvPicPr/>
          <p:nvPr/>
        </p:nvPicPr>
        <p:blipFill>
          <a:blip r:embed="rId1"/>
          <a:stretch/>
        </p:blipFill>
        <p:spPr>
          <a:xfrm>
            <a:off x="5715000" y="1071720"/>
            <a:ext cx="279864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150012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0040" y="128556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itable for studying the physiology of muscles, nerves and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71880" cy="2357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2"/>
          <a:stretch/>
        </p:blipFill>
        <p:spPr>
          <a:xfrm>
            <a:off x="6072120" y="3714840"/>
            <a:ext cx="24386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55:53Z</dcterms:created>
  <dc:creator>Maja</dc:creator>
  <dc:description/>
  <dc:language>en-US</dc:language>
  <cp:lastModifiedBy>Korisnik</cp:lastModifiedBy>
  <dcterms:modified xsi:type="dcterms:W3CDTF">2023-10-10T09:49:49Z</dcterms:modified>
  <cp:revision>167</cp:revision>
  <dc:subject/>
  <dc:title>Slide 1</dc:title>
</cp:coreProperties>
</file>